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-360" y="866124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3"/>
          </p:nvPr>
        </p:nvSpPr>
        <p:spPr>
          <a:xfrm>
            <a:off x="3884400" y="866124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fld id="{930567D7-FAFD-46CA-85BA-66A398BBC364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993600" y="4327200"/>
            <a:ext cx="4870800" cy="411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Img"/>
          </p:nvPr>
        </p:nvSpPr>
        <p:spPr>
          <a:xfrm>
            <a:off x="1158480" y="690480"/>
            <a:ext cx="4545000" cy="340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73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3884760" y="866124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fld id="{55FB836C-A6D4-4975-847F-B5A7F0D68D7A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93600" y="4327200"/>
            <a:ext cx="48708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3884760" y="866124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fld id="{FCACD3F9-A13D-4E71-B5A3-3221AAC12DF0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93600" y="4327200"/>
            <a:ext cx="48708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3884760" y="866124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fld id="{AE0E0A4F-933E-45BF-A4E8-11E70BCE1606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93600" y="4327200"/>
            <a:ext cx="48708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5"/>
          <p:cNvSpPr/>
          <p:nvPr/>
        </p:nvSpPr>
        <p:spPr>
          <a:xfrm>
            <a:off x="3884760" y="866124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fld id="{230A42DE-3FAE-4278-9411-72A5F301064C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60640" y="69048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93600" y="4327200"/>
            <a:ext cx="48708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3884760" y="8661240"/>
            <a:ext cx="29732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54200"/>
                <a:tab algn="l" pos="1508040"/>
                <a:tab algn="l" pos="2262240"/>
                <a:tab algn="l" pos="3016080"/>
                <a:tab algn="l" pos="3770280"/>
                <a:tab algn="l" pos="4524480"/>
                <a:tab algn="l" pos="5278320"/>
                <a:tab algn="l" pos="6032520"/>
                <a:tab algn="l" pos="6786720"/>
                <a:tab algn="l" pos="7540560"/>
                <a:tab algn="l" pos="8294760"/>
                <a:tab algn="l" pos="9048600"/>
                <a:tab algn="l" pos="9802800"/>
                <a:tab algn="l" pos="10557000"/>
              </a:tabLst>
            </a:pPr>
            <a:fld id="{F0DD9268-2B4B-44E7-828B-0D59E2972908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93600" y="4327200"/>
            <a:ext cx="48708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8640" y="1480680"/>
            <a:ext cx="843624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8640" y="3963240"/>
            <a:ext cx="843624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8640" y="148068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1520" y="148068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8640" y="396324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1520" y="396324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8640" y="148068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0920" y="148068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63560" y="148068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8640" y="396324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0920" y="396324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63560" y="3963240"/>
            <a:ext cx="271620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8640" y="1480680"/>
            <a:ext cx="84362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8640" y="1480680"/>
            <a:ext cx="843624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8640" y="1480680"/>
            <a:ext cx="411660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1520" y="1480680"/>
            <a:ext cx="411660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7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6840" y="533520"/>
            <a:ext cx="83818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8640" y="148068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1520" y="1480680"/>
            <a:ext cx="411660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8640" y="396324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8640" y="1480680"/>
            <a:ext cx="411660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1520" y="148068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1520" y="396324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8640" y="148068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1520" y="1480680"/>
            <a:ext cx="411660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8640" y="3963240"/>
            <a:ext cx="843624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73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8640" y="1480680"/>
            <a:ext cx="843624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4040" indent="-284040">
              <a:spcBef>
                <a:spcPts val="1250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7280">
              <a:spcBef>
                <a:spcPts val="1250"/>
              </a:spcBef>
              <a:buClr>
                <a:srgbClr val="0000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195120">
              <a:spcBef>
                <a:spcPts val="1250"/>
              </a:spcBef>
              <a:buClr>
                <a:srgbClr val="0000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304920"/>
            <a:ext cx="8460000" cy="230040"/>
          </a:xfrm>
          <a:custGeom>
            <a:avLst/>
            <a:gdLst>
              <a:gd name="textAreaLeft" fmla="*/ 0 w 8460000"/>
              <a:gd name="textAreaRight" fmla="*/ 8460000 w 846000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5329" h="145">
                <a:moveTo>
                  <a:pt x="0" y="144"/>
                </a:moveTo>
                <a:lnTo>
                  <a:pt x="0" y="0"/>
                </a:lnTo>
                <a:lnTo>
                  <a:pt x="5328" y="0"/>
                </a:lnTo>
              </a:path>
            </a:pathLst>
          </a:custGeom>
          <a:noFill/>
          <a:ln cap="rnd" w="12600">
            <a:solidFill>
              <a:srgbClr val="0000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13"/>
          <p:cNvSpPr/>
          <p:nvPr/>
        </p:nvSpPr>
        <p:spPr>
          <a:xfrm>
            <a:off x="331488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3508200"/>
            <a:ext cx="8923320" cy="18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3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73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73"/>
                </a:solidFill>
                <a:latin typeface="Arial"/>
              </a:rPr>
              <a:t>Възможности за финансиране на проекти за иновации, внедряване на нови технологии и сътрудничество с научно изследователските организации, работещи в областта на храните и суровините за хранително-вкусовата промишленост </a:t>
            </a:r>
            <a:br>
              <a:rPr sz="2200"/>
            </a:br>
            <a:r>
              <a:rPr b="1" lang="bg-BG" sz="2200" spc="-1" strike="noStrike">
                <a:solidFill>
                  <a:srgbClr val="000073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48" name="Rectangle 26"/>
          <p:cNvSpPr/>
          <p:nvPr/>
        </p:nvSpPr>
        <p:spPr>
          <a:xfrm>
            <a:off x="0" y="21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28"/>
          <p:cNvSpPr/>
          <p:nvPr/>
        </p:nvSpPr>
        <p:spPr>
          <a:xfrm>
            <a:off x="838080" y="2414520"/>
            <a:ext cx="754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56"/>
                </a:solidFill>
                <a:latin typeface="Arial"/>
              </a:rPr>
              <a:t>П</a:t>
            </a:r>
            <a:r>
              <a:rPr b="1" lang="ru-RU" sz="1400" spc="-1" strike="noStrike">
                <a:solidFill>
                  <a:srgbClr val="000056"/>
                </a:solidFill>
                <a:latin typeface="Arial"/>
              </a:rPr>
              <a:t>роект InnoFOOD SEE „Изграждане на механизми в подкрепа на иновациите и повишаване на информираността относно потенциала на иновациите и научно-техническото развитие в хранителната промишленост в Югоизточна Европа”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32" descr=""/>
          <p:cNvPicPr/>
          <p:nvPr/>
        </p:nvPicPr>
        <p:blipFill>
          <a:blip r:embed="rId1"/>
          <a:stretch/>
        </p:blipFill>
        <p:spPr>
          <a:xfrm>
            <a:off x="406440" y="33012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3" descr=""/>
          <p:cNvPicPr/>
          <p:nvPr/>
        </p:nvPicPr>
        <p:blipFill>
          <a:blip r:embed="rId2"/>
          <a:stretch/>
        </p:blipFill>
        <p:spPr>
          <a:xfrm>
            <a:off x="3073320" y="345960"/>
            <a:ext cx="2641680" cy="736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4" descr=""/>
          <p:cNvPicPr/>
          <p:nvPr/>
        </p:nvPicPr>
        <p:blipFill>
          <a:blip r:embed="rId3"/>
          <a:stretch/>
        </p:blipFill>
        <p:spPr>
          <a:xfrm>
            <a:off x="6762600" y="325440"/>
            <a:ext cx="2171880" cy="923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5" descr=""/>
          <p:cNvPicPr/>
          <p:nvPr/>
        </p:nvPicPr>
        <p:blipFill>
          <a:blip r:embed="rId4"/>
          <a:stretch/>
        </p:blipFill>
        <p:spPr>
          <a:xfrm>
            <a:off x="3068640" y="1301760"/>
            <a:ext cx="2646360" cy="7970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8"/>
          <p:cNvSpPr/>
          <p:nvPr/>
        </p:nvSpPr>
        <p:spPr>
          <a:xfrm>
            <a:off x="901800" y="6005880"/>
            <a:ext cx="75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56"/>
                </a:solidFill>
                <a:latin typeface="Arial"/>
              </a:rPr>
              <a:t>29 май 2012 г., гр. Пазарджик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4"/>
          <p:cNvSpPr/>
          <p:nvPr/>
        </p:nvSpPr>
        <p:spPr>
          <a:xfrm>
            <a:off x="1968480" y="5537160"/>
            <a:ext cx="546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56"/>
                </a:solidFill>
                <a:latin typeface="Arial"/>
              </a:rPr>
              <a:t>Евгений Иванов, Експерт проекти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52080"/>
            <a:ext cx="83818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Българската ХВП – възможности за развитие</a:t>
            </a:r>
            <a:endParaRPr b="1" lang="en-US" sz="26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330120" y="11937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тратегия за повече продукти с добавена стойнос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Целево осъвременяване на резултатите от изследванията и разработкит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Непрекъснати усилия за иновации в МСП (вкл. проблеми при продажбите на едро и дребно) и укрепването на международното измерени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о-добър пазарен достъп до трети стран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Намаляване на административната тежес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Актуализиране на законодателството и опростяване на законодателната рамка в областта на храните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Инициативи в областта на новаторските храни и етикетирането на хран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39060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73"/>
                </a:solidFill>
                <a:latin typeface="Arial"/>
              </a:rPr>
              <a:t>Възможности за финансиране на проекти за иновации на фирми от ХВП</a:t>
            </a:r>
            <a:endParaRPr b="1" lang="en-US" sz="24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82" name="Rectangle 147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899" descr=""/>
          <p:cNvPicPr/>
          <p:nvPr/>
        </p:nvPicPr>
        <p:blipFill>
          <a:blip r:embed="rId1"/>
          <a:stretch/>
        </p:blipFill>
        <p:spPr>
          <a:xfrm>
            <a:off x="101520" y="1206360"/>
            <a:ext cx="8940960" cy="5588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43"/>
          <p:cNvSpPr/>
          <p:nvPr/>
        </p:nvSpPr>
        <p:spPr>
          <a:xfrm>
            <a:off x="4216320" y="8128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http://cordis.europa.eu/fp7/home_en.htm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419040" y="322200"/>
            <a:ext cx="8724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Оперативна програма </a:t>
            </a:r>
            <a:r>
              <a:rPr b="1" lang="en-US" sz="2600" spc="-1" strike="noStrike">
                <a:solidFill>
                  <a:srgbClr val="000073"/>
                </a:solidFill>
                <a:latin typeface="Arial"/>
              </a:rPr>
              <a:t>“</a:t>
            </a: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Конкурентноспособност</a:t>
            </a:r>
            <a:r>
              <a:rPr b="1" lang="en-US" sz="2600" spc="-1" strike="noStrike">
                <a:solidFill>
                  <a:srgbClr val="000073"/>
                </a:solidFill>
                <a:latin typeface="Arial"/>
              </a:rPr>
              <a:t>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28760" y="1054080"/>
            <a:ext cx="849924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Традиционно не финансира предприятия в </a:t>
            </a:r>
            <a:r>
              <a:rPr b="0" lang="bg-BG" sz="1800" spc="-1" strike="noStrike">
                <a:solidFill>
                  <a:srgbClr val="c00000"/>
                </a:solidFill>
                <a:latin typeface="Arial"/>
              </a:rPr>
              <a:t>Сектор C, по-конкретно код 10 „Производство на хранителни продукти” и код 11 „Производство на напитки” съгласно Класификацията на икономическите дейности от 2008 г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„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Разработване на иновации от стартиращи предприятия” – приключила през 2011 г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„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Подкрепа за внедряване в производство на иновативни продукти, процеси и предоставяне на иновативни услуги” – приключила през 2011 г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„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Покриване на международно признати стандарти и въвеждане на системи за управление в предприятията” – приключила 2011 г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„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Инвестиции в „зелена индустрия”” – приключила на 15 февруари 2012 г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Подкрепа за научноизследователската и развойна дейност на българските предприятия</a:t>
            </a: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”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 - 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краен срок 8 юни 2012 г.</a:t>
            </a: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 (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не е допустима за фирми в Сектор С, код 10 и 11 от КИД-2008</a:t>
            </a: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„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Подкрепа за развитието на клъстерите в България” – отворена без краен срок за кандидатстване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"Енергийна ефективност и зелена икономика“ за МСП – предстои отваряне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1920"/>
            <a:ext cx="84772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Оперативна програма </a:t>
            </a:r>
            <a:r>
              <a:rPr b="1" lang="en-US" sz="2600" spc="-1" strike="noStrike">
                <a:solidFill>
                  <a:srgbClr val="000073"/>
                </a:solidFill>
                <a:latin typeface="Arial"/>
              </a:rPr>
              <a:t>“</a:t>
            </a: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Развитие на човешките ресурси</a:t>
            </a:r>
            <a:r>
              <a:rPr b="1" lang="en-US" sz="2600" spc="-1" strike="noStrike">
                <a:solidFill>
                  <a:srgbClr val="000073"/>
                </a:solidFill>
                <a:latin typeface="Arial"/>
              </a:rPr>
              <a:t>”</a:t>
            </a:r>
            <a:endParaRPr b="1" lang="en-US" sz="26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250920" y="1693800"/>
            <a:ext cx="8642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d0d0d"/>
                </a:solidFill>
                <a:latin typeface="Arial"/>
              </a:rPr>
              <a:t>“</a:t>
            </a:r>
            <a:r>
              <a:rPr b="1" lang="bg-BG" sz="1800" spc="-1" strike="noStrike">
                <a:solidFill>
                  <a:srgbClr val="0d0d0d"/>
                </a:solidFill>
                <a:latin typeface="Arial"/>
              </a:rPr>
              <a:t>Квалификационни услуги и обучения за заети лица” – фаза 3 – за всички предприяти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bg-BG" sz="1800" spc="-1" strike="noStrike">
                <a:solidFill>
                  <a:srgbClr val="c00000"/>
                </a:solidFill>
                <a:latin typeface="Arial"/>
              </a:rPr>
              <a:t>Краен срок: 31.05.2012 г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d0d0d"/>
                </a:solidFill>
                <a:uFillTx/>
                <a:latin typeface="Arial"/>
              </a:rPr>
              <a:t>Очаквани грантови схеми до края на 2012 г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d0d0d"/>
                </a:solidFill>
                <a:latin typeface="Arial"/>
              </a:rPr>
              <a:t>„</a:t>
            </a:r>
            <a:r>
              <a:rPr b="1" lang="bg-BG" sz="1800" spc="-1" strike="noStrike">
                <a:solidFill>
                  <a:srgbClr val="0d0d0d"/>
                </a:solidFill>
                <a:latin typeface="Arial"/>
              </a:rPr>
              <a:t>Безопасен труд” – за всички предприяти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Очаква се да отвори нов прием през втората половина на 2012 г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d0d0d"/>
                </a:solidFill>
                <a:latin typeface="Arial"/>
              </a:rPr>
              <a:t>2. </a:t>
            </a:r>
            <a:r>
              <a:rPr b="1" lang="bg-BG" sz="1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bg-BG" sz="1800" spc="-1" strike="noStrike">
                <a:solidFill>
                  <a:srgbClr val="0d0d0d"/>
                </a:solidFill>
                <a:latin typeface="Arial"/>
              </a:rPr>
              <a:t>„Без граници – Компонент 1”, по Приоритетна ос 7: Транснационално и междурегионално сътрудничество – за БКОС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Очаква се да отвори нов прием през втората половина на 2012 г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21920"/>
            <a:ext cx="84772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Програма за развитие на селските райони</a:t>
            </a:r>
            <a:endParaRPr b="1" lang="en-US" sz="26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82760" y="1163520"/>
            <a:ext cx="797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d0d0d"/>
                </a:solidFill>
                <a:latin typeface="Arial"/>
              </a:rPr>
              <a:t>Мярка 123 „Добавяне на стойност към земеделски и горски продукти”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355680" y="1976040"/>
            <a:ext cx="8051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рката има за цел п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обряване на цялостната дейност, икономическата ефективност и конкурентоспособността на предприятия от хранително-преработвателната и горската промишлености чрез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по-добро използване на факторите за производство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въвеждане на нови  продукти, процеси и технологи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подобряване на качеството и безопасността на храните и тяхната проследяемост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стигане на съответствие със стандартите на Общностт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добряване опазването на околната сред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584280" y="4910040"/>
            <a:ext cx="797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00000"/>
                </a:solidFill>
                <a:latin typeface="Arial"/>
              </a:rPr>
              <a:t>Период на прием: 4 - 22 юни 2012 г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0073"/>
                </a:solidFill>
                <a:latin typeface="Arial"/>
              </a:rPr>
              <a:t>За контакти:</a:t>
            </a:r>
            <a:endParaRPr b="1" lang="en-US" sz="30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474840" y="1590840"/>
            <a:ext cx="8110440" cy="40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00"/>
                </a:solidFill>
                <a:latin typeface="Arial"/>
                <a:ea typeface="Arial"/>
              </a:rPr>
              <a:t>Евгений Иванов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00"/>
                </a:solidFill>
                <a:latin typeface="Arial"/>
                <a:ea typeface="Arial"/>
              </a:rPr>
              <a:t>Генерален мениджър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bg-BG" sz="2600" spc="-1" strike="noStrike">
                <a:solidFill>
                  <a:srgbClr val="000000"/>
                </a:solidFill>
                <a:latin typeface="Arial"/>
                <a:ea typeface="Arial"/>
              </a:rPr>
              <a:t>Евроконсултантс България С.А.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bg-BG" sz="2600" spc="-1" strike="noStrike">
                <a:solidFill>
                  <a:srgbClr val="000000"/>
                </a:solidFill>
                <a:latin typeface="Arial"/>
                <a:ea typeface="Arial"/>
              </a:rPr>
              <a:t> АД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ул. “Цар Асен” 29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Соф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1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00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Тел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: (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)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987 53 06, 988 50 2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Факс: (02) 987 48 0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-mail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icebg@euroconsultants.com.gr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Интернет: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www.euroconsulta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g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.co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366840"/>
            <a:ext cx="8381880" cy="56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Дефиниция на иновация</a:t>
            </a:r>
            <a:endParaRPr b="1" lang="en-US" sz="26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044720"/>
            <a:ext cx="5587920" cy="557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новацията е новост, т.е. нещо, което притежава качествено различна степен на усъвършенстване спрямо свое предходно положение или е нещо ново - нововъведение, новооткритие, което досега не е съществувало във времето и пространството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новацията има значителна позитивна стойност, което означава, че за да е налице иновация, не е достатъчно само да се създаде нещо ново, но то трябва да предизвиква силен позитивен ефект в сравнение с предходни подобни творения от същият клас и вид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ещо повече, този позитивен ефект трябва да се постига с минимални разходи или поне съотношението позитивен ефект към разходи да бъде многократно в полза на ефект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8" descr="E:\Euroconsultants\Calls for proposals\335_Inno Food SEE\Info Day May 2012\Rubik.jpg"/>
          <p:cNvPicPr/>
          <p:nvPr/>
        </p:nvPicPr>
        <p:blipFill>
          <a:blip r:embed="rId1"/>
          <a:stretch/>
        </p:blipFill>
        <p:spPr>
          <a:xfrm>
            <a:off x="5846760" y="4788000"/>
            <a:ext cx="3297240" cy="2044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2" descr="DSC_1318"/>
          <p:cNvPicPr/>
          <p:nvPr/>
        </p:nvPicPr>
        <p:blipFill>
          <a:blip r:embed="rId2"/>
          <a:stretch/>
        </p:blipFill>
        <p:spPr>
          <a:xfrm>
            <a:off x="6019920" y="312840"/>
            <a:ext cx="3124080" cy="2278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6 soorten"/>
          <p:cNvPicPr/>
          <p:nvPr/>
        </p:nvPicPr>
        <p:blipFill>
          <a:blip r:embed="rId3"/>
          <a:stretch/>
        </p:blipFill>
        <p:spPr>
          <a:xfrm>
            <a:off x="5985000" y="2743200"/>
            <a:ext cx="3159000" cy="1852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8640" y="355320"/>
            <a:ext cx="83822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Видове иновации</a:t>
            </a:r>
            <a:endParaRPr b="1" lang="en-US" sz="26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26960" y="1089000"/>
            <a:ext cx="8361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Технически иновации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Технологически иновации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Интелектуални иновации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Хуманитарни иновации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Организационни иновации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Социални иновации като съвкупност от няколко подгрупи - социо-политически, социо-икономически, социо-културни и други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190440" y="4245840"/>
            <a:ext cx="8953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Според </a:t>
            </a:r>
            <a:r>
              <a:rPr b="1" lang="bg-BG" sz="2200" spc="-1" strike="noStrike" u="sng">
                <a:solidFill>
                  <a:srgbClr val="0d0d0d"/>
                </a:solidFill>
                <a:uFillTx/>
                <a:latin typeface="Arial"/>
              </a:rPr>
              <a:t>степента на новаторството</a:t>
            </a: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, което носят, иновациите биват два основни типа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Инкрементални иновации - усъвършенстване на нещо съществуващо, т.е. относително ниска степен на иновативност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d0d0d"/>
                </a:solidFill>
                <a:latin typeface="Arial"/>
              </a:rPr>
              <a:t>Радикални иновации - висока степен на иновативност, създава се нещо, което не е съществувало в предходен период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38188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Иновациите в Европейския съюз </a:t>
            </a:r>
            <a:r>
              <a:rPr b="1" lang="en-US" sz="2600" spc="-1" strike="noStrike">
                <a:solidFill>
                  <a:srgbClr val="000073"/>
                </a:solidFill>
                <a:latin typeface="Arial"/>
              </a:rPr>
              <a:t>(</a:t>
            </a: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73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428760" y="1155600"/>
            <a:ext cx="825804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Основният документ, ръководещ общата икономическа политика на ЕС, е Лисабонската стратегия, приета през 2000 г. Нейната мисия е да превърне ЕС в най-динамичната икономика, основана на знанието, в света до 2010 г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Най-важният инструмент за осъществяването на тази мисия, превърнал се в нейна своеобразна марка, е повишаването на инвестициите в изследователска и развойна дейност в ЕС средно до 3% от БВП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През 2005 г. ЕС направи преглед на изпълнението на стратегията и установи, че напредъкът е незадоволителен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През есента на 2006 г. Европейската комисия представи първата по рода си за ЕС иновационна стратегия, чиято основна цел е да насърчи превръщането на инвестициите в изследователска и развойна дейност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 в пазарни продукти и услуг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В резултат Европейската комисия предложи редица политики и мерки за подобряване на иновационната активност в ЕС, чието изпълнение беше включено в новия седемгодишен бюджетен цикъл на Общността за периода 2007-2013 г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6200" y="353520"/>
            <a:ext cx="803772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Иновациите в Европейския съюз </a:t>
            </a:r>
            <a:r>
              <a:rPr b="1" lang="en-US" sz="2600" spc="-1" strike="noStrike">
                <a:solidFill>
                  <a:srgbClr val="000073"/>
                </a:solidFill>
                <a:latin typeface="Arial"/>
              </a:rPr>
              <a:t>(</a:t>
            </a: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00073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196920" y="1139760"/>
            <a:ext cx="8451720" cy="46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В Европа, Швейцария е на първо място по иновации, следвана от Швеция, Финландия, Германия, Дания и Великобритани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За последните пет години ЕС е постигнал голям напредък, като въпреки че той все още изостава от САЩ и Япония, разликата намаляв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Резултатите на ЕС са сравнително по-добри спрямо тези на развиващи се икономики като Китай, Индия и Бразилия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ЕС изостава от САЩ в бизнес инвестициите, а от Япония - във въвеждането на иновации в научно-изследователската и развойна дейност и информационните технологи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Компаниите от ЕС също така харчат по-малко за нетехнологични иновации като обучение, дизайн и маркетинг, а всички те са важни за поддържане на конкурентоспособностт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Разходите за научно-изследователска и развойна дейност в ЕС </a:t>
            </a: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(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2008 г.</a:t>
            </a: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)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</a:rPr>
              <a:t> са на ниво от 1,84% от БВП - много под целта на ЕС от 3%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6560" y="353520"/>
            <a:ext cx="8677440" cy="8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Доклад за иновациите и конкурентоспособността 2007, Европейска комисия</a:t>
            </a:r>
            <a:endParaRPr b="1" lang="en-US" sz="26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61800" y="1279440"/>
            <a:ext cx="848052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Arial"/>
              </a:rPr>
              <a:t>Категоризация на наблюдаваните страни според показателите на иновационната им дейност спрямо средния показател за ЕС: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d0d0d"/>
                </a:solidFill>
                <a:latin typeface="Arial"/>
              </a:rPr>
              <a:t>И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новационни лидери (Швейцария, Финландия, Швеция, Дания, Германия</a:t>
            </a:r>
            <a:r>
              <a:rPr b="0" lang="bg-BG" sz="1600" spc="-1" strike="noStrike">
                <a:solidFill>
                  <a:srgbClr val="0d0d0d"/>
                </a:solidFill>
                <a:latin typeface="Arial"/>
              </a:rPr>
              <a:t>, Великобритания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d0d0d"/>
                </a:solidFill>
                <a:latin typeface="Arial"/>
              </a:rPr>
              <a:t>С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редно равнище (</a:t>
            </a:r>
            <a:r>
              <a:rPr b="0" lang="bg-BG" sz="1600" spc="-1" strike="noStrike">
                <a:solidFill>
                  <a:srgbClr val="0d0d0d"/>
                </a:solidFill>
                <a:latin typeface="Arial"/>
              </a:rPr>
              <a:t>Австрия, Ирландия, Люксембург, Белгия, Франция и Холандия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d0d0d"/>
                </a:solidFill>
                <a:latin typeface="Arial"/>
              </a:rPr>
              <a:t>Д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огонващи (</a:t>
            </a:r>
            <a:r>
              <a:rPr b="0" lang="bg-BG" sz="1600" spc="-1" strike="noStrike">
                <a:solidFill>
                  <a:srgbClr val="0d0d0d"/>
                </a:solidFill>
                <a:latin typeface="Arial"/>
              </a:rPr>
              <a:t>Кипър, Исландия, Естония, Словения, Чешката република, Норвегия, Испания, Португалия, Гърция и Италия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d0d0d"/>
                </a:solidFill>
                <a:latin typeface="Arial"/>
              </a:rPr>
              <a:t>И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зоставащи (</a:t>
            </a:r>
            <a:r>
              <a:rPr b="0" lang="bg-BG" sz="1600" spc="-1" strike="noStrike">
                <a:solidFill>
                  <a:srgbClr val="0d0d0d"/>
                </a:solidFill>
                <a:latin typeface="Arial"/>
              </a:rPr>
              <a:t>Малта, Унгария, Словакия, Полша, Литва, Хърватия, Румъния, Латвия, </a:t>
            </a:r>
            <a:r>
              <a:rPr b="0" lang="bg-BG" sz="1600" spc="-1" strike="noStrike" u="sng">
                <a:solidFill>
                  <a:srgbClr val="0d0d0d"/>
                </a:solidFill>
                <a:uFillTx/>
                <a:latin typeface="Arial"/>
              </a:rPr>
              <a:t>България</a:t>
            </a:r>
            <a:r>
              <a:rPr b="0" lang="bg-BG" sz="1600" spc="-1" strike="noStrike">
                <a:solidFill>
                  <a:srgbClr val="0d0d0d"/>
                </a:solidFill>
                <a:latin typeface="Arial"/>
              </a:rPr>
              <a:t> и Турция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7" descr="innovation-index_corected"/>
          <p:cNvPicPr/>
          <p:nvPr/>
        </p:nvPicPr>
        <p:blipFill>
          <a:blip r:embed="rId1"/>
          <a:stretch/>
        </p:blipFill>
        <p:spPr>
          <a:xfrm>
            <a:off x="2197080" y="3816360"/>
            <a:ext cx="5533920" cy="299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352080"/>
            <a:ext cx="83818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Ситуацията в Европа  - сега и след кризата</a:t>
            </a:r>
            <a:endParaRPr b="1" lang="en-US" sz="26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66760" y="1308240"/>
            <a:ext cx="867420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4040" indent="-28404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Преструктуриране на икономиката и следване на световните тенден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Инвестиране в човешки капитал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Интегриране в ефективни “мрежи” на производството и науката и ускоряване на технологичното обновление в индустрията, транспорта и селското стопанство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одкрепа на някои особено важни инициативи, като например “Регионите на знанието” като база за ускорено въвеждане на иновации  в национален, регионален и трансграничен аспек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352080"/>
            <a:ext cx="8381880" cy="80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Българската ХВП </a:t>
            </a:r>
            <a:r>
              <a:rPr b="1" lang="en-US" sz="2600" spc="-1" strike="noStrike">
                <a:solidFill>
                  <a:srgbClr val="000073"/>
                </a:solidFill>
                <a:latin typeface="Arial"/>
              </a:rPr>
              <a:t>(</a:t>
            </a: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2009-2011 г.</a:t>
            </a:r>
            <a:r>
              <a:rPr b="1" lang="en-US" sz="2600" spc="-1" strike="noStrike">
                <a:solidFill>
                  <a:srgbClr val="000073"/>
                </a:solidFill>
                <a:latin typeface="Arial"/>
              </a:rPr>
              <a:t>)</a:t>
            </a: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 - период на приспособяване </a:t>
            </a:r>
            <a:r>
              <a:rPr b="1" lang="en-US" sz="2600" spc="-1" strike="noStrike">
                <a:solidFill>
                  <a:srgbClr val="000073"/>
                </a:solidFill>
                <a:latin typeface="Arial"/>
              </a:rPr>
              <a:t>(</a:t>
            </a: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73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95360" y="1333440"/>
            <a:ext cx="7772400" cy="21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4040" indent="-2840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Проблеми - силно конюнктурна бизнес среда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токи с високи цен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Ограничения на достъпа до ключови суровин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Необходимост от разработване на нова външнотърговска политика относно достъпа до пазарит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69800" y="3517920"/>
            <a:ext cx="8331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4040" indent="-2840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Предизвикателствата пред тази индустрия 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Ниска производителност на труд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остоянен недостиг на нововъведени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оменящи се потребителски предпочитани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Нормативната уредба, разработена през последните години в отговор на безпокойствата на потребителите, свързани със здравето и околната среда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Наличие на много микро- и малки предприятия, силно зависими от пазарните промени и флуктуациите в ценит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5"/>
          <p:cNvSpPr/>
          <p:nvPr/>
        </p:nvSpPr>
        <p:spPr>
          <a:xfrm>
            <a:off x="0" y="2943360"/>
            <a:ext cx="5465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352080"/>
            <a:ext cx="8381880" cy="80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Българската ХВП </a:t>
            </a:r>
            <a:r>
              <a:rPr b="1" lang="en-US" sz="2600" spc="-1" strike="noStrike">
                <a:solidFill>
                  <a:srgbClr val="000073"/>
                </a:solidFill>
                <a:latin typeface="Arial"/>
              </a:rPr>
              <a:t>(</a:t>
            </a: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2009-2011 г.</a:t>
            </a:r>
            <a:r>
              <a:rPr b="1" lang="en-US" sz="2600" spc="-1" strike="noStrike">
                <a:solidFill>
                  <a:srgbClr val="000073"/>
                </a:solidFill>
                <a:latin typeface="Arial"/>
              </a:rPr>
              <a:t>)</a:t>
            </a: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 - период на приспособяване </a:t>
            </a:r>
            <a:r>
              <a:rPr b="1" lang="en-US" sz="2600" spc="-1" strike="noStrike">
                <a:solidFill>
                  <a:srgbClr val="000073"/>
                </a:solidFill>
                <a:latin typeface="Arial"/>
              </a:rPr>
              <a:t>(</a:t>
            </a:r>
            <a:r>
              <a:rPr b="1" lang="bg-BG" sz="2600" spc="-1" strike="noStrike">
                <a:solidFill>
                  <a:srgbClr val="000073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00073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000073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68280" y="16509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4040" indent="-2840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Положителни тенденции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Хармонизирано законодателство на ЕС относно храните продължава да допринася за тяхната безопасност и доверие на потребителите, както и за развитието на селскостопанския и хранително-вкусов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ектор в Съюза и в Българи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екторът се повлия най-слабо от процесите на финансовата и икономическата криз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 algn="just">
              <a:lnSpc>
                <a:spcPct val="80000"/>
              </a:lnSpc>
              <a:spcBef>
                <a:spcPts val="1199"/>
              </a:spcBef>
              <a:buClr>
                <a:srgbClr val="00007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Възможност за недопускане на ГМО и запазване автентичния характер на българските хранителни продукти за Европейските и световните пазар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1:12:30Z</dcterms:created>
  <dc:creator>Eugeniy Ivanov</dc:creator>
  <dc:description/>
  <dc:language>en-US</dc:language>
  <cp:lastModifiedBy>GERI</cp:lastModifiedBy>
  <cp:lastPrinted>2000-11-24T18:53:59Z</cp:lastPrinted>
  <dcterms:modified xsi:type="dcterms:W3CDTF">2012-05-28T14:55:45Z</dcterms:modified>
  <cp:revision>705</cp:revision>
  <dc:subject/>
  <dc:title>Investment Strategy</dc:title>
</cp:coreProperties>
</file>