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536-03EB-4B84-A0E2-ADBED909D1E9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27A1-32DD-4B7A-A01D-86A6FE01FC2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1858-DD68-423C-9F54-2F513835434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CAC6-CC28-4395-9856-AE76212ECF6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F35-833C-4BDE-87CC-67ADF3B7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077-EC13-4937-8403-F88B1EA9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09C-057A-47A8-88A4-4519CCD3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AC5-CDA4-4F56-B84F-B88C35A7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0570-AAC0-4872-975B-84D1077F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57A5-71E2-4460-8FC0-A4A950DF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40C0-3096-4E9B-81B7-F7E5327A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1E15-F37F-4B8F-875B-D0301F1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DDEA-41F3-4FD5-936F-6B0958B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9F76-231E-4D54-9AA5-C84E5D8D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E028-0987-41E7-8562-7CF3B248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C91-3F02-4E8F-9DAF-8073365E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93BB-10C8-4A9E-AF8F-AD86836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1620-A516-4414-8BFA-B0789BD4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A9BB-2F27-4F06-B3D7-60D1F845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C57C-3127-4049-B686-E5B04AE3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ACC2-2B92-4B72-9BFF-D50B8339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DA5-FB37-40C8-87ED-05D698FA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F44-44FB-4BC6-86AB-B83F8C1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38E-4CA9-498D-AE6B-FDF75BB1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EC2-6FD6-4A2E-8B0B-146545E4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D15-C366-46EF-951B-17FE6C15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6C6-48AD-4599-A9F4-65F5015E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B52-B0B8-40B2-B45F-9E8F7124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C62-C883-43A1-A326-D64FB98CD1C3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3DB7-0713-444C-B60E-45EFDF3E6FC8}" type="slidenum">
              <a:rPr b="1" lang="bg-BG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50840" y="1275840"/>
            <a:ext cx="7398000" cy="14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3366"/>
                </a:solidFill>
                <a:latin typeface="Arial"/>
              </a:rPr>
              <a:t>Повишаване на качеството и безопасностт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3366"/>
                </a:solidFill>
                <a:latin typeface="Arial"/>
              </a:rPr>
              <a:t>на храните и нови тенденции вхранителните технологи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2781000"/>
            <a:ext cx="8136000" cy="38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bg-BG" sz="2000" spc="-1" strike="noStrike">
                <a:solidFill>
                  <a:srgbClr val="33cccc"/>
                </a:solidFill>
                <a:latin typeface="Arial"/>
              </a:rPr>
              <a:t>По проект “InnoFOOD SEE”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</a:rPr>
              <a:t>финансиран по програма Транс-национално сътрудничество Югоизточна Европ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6666"/>
                </a:solidFill>
                <a:latin typeface="Arial"/>
              </a:rPr>
              <a:t>Ивайло Мандинск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6666"/>
                </a:solidFill>
                <a:latin typeface="Arial"/>
              </a:rPr>
              <a:t>Пазарджик, 29.05.2012 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21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3760" cy="628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4164840" y="2768400"/>
            <a:ext cx="8146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2987640" y="0"/>
          <a:ext cx="227664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0"/>
                    <a:ext cx="22766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9"/>
          <p:cNvSpPr/>
          <p:nvPr/>
        </p:nvSpPr>
        <p:spPr>
          <a:xfrm>
            <a:off x="4204440" y="3957120"/>
            <a:ext cx="7351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810560" y="0"/>
          <a:ext cx="133344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10560" y="0"/>
                    <a:ext cx="1333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0"/>
          <p:cNvSpPr/>
          <p:nvPr/>
        </p:nvSpPr>
        <p:spPr>
          <a:xfrm>
            <a:off x="0" y="471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56800" y="2356920"/>
            <a:ext cx="4286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3366"/>
                </a:solidFill>
                <a:latin typeface="Arial"/>
              </a:rPr>
              <a:t>Биотехнологи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7" descr="http://t1.gstatic.com/images?q=tbn:ANd9GcS1ockWyaXArpoqfnxkatAlYw0ipuI1yZfX8_lrtP7Yx9NNyqPV"/>
          <p:cNvPicPr/>
          <p:nvPr/>
        </p:nvPicPr>
        <p:blipFill>
          <a:blip r:embed="rId1"/>
          <a:stretch/>
        </p:blipFill>
        <p:spPr>
          <a:xfrm>
            <a:off x="785880" y="3643200"/>
            <a:ext cx="3786120" cy="3214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http://t2.gstatic.com/images?q=tbn:ANd9GcTIhivZa38nWj8KgjrgJCZ2NwCGWF5TBAcDAz26xtSkZEUBBwY"/>
          <p:cNvPicPr/>
          <p:nvPr/>
        </p:nvPicPr>
        <p:blipFill>
          <a:blip r:embed="rId2"/>
          <a:stretch/>
        </p:blipFill>
        <p:spPr>
          <a:xfrm>
            <a:off x="6929280" y="142920"/>
            <a:ext cx="2071800" cy="1714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http://t0.gstatic.com/images?q=tbn:ANd9GcSF3--6rYxx357Cfv1PW7aGMbBcfQK14zq4zW2sEgzCYRKSqdJWUg"/>
          <p:cNvPicPr/>
          <p:nvPr/>
        </p:nvPicPr>
        <p:blipFill>
          <a:blip r:embed="rId3"/>
          <a:stretch/>
        </p:blipFill>
        <p:spPr>
          <a:xfrm>
            <a:off x="4572000" y="3543480"/>
            <a:ext cx="1380960" cy="3314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http://t0.gstatic.com/images?q=tbn:ANd9GcSPJuLAc9pOsIU1olK3Wx8tuJ0w0JGf1o-42OliIBQEvELQPKX_BYBLZ5rJ_Q"/>
          <p:cNvPicPr/>
          <p:nvPr/>
        </p:nvPicPr>
        <p:blipFill>
          <a:blip r:embed="rId4"/>
          <a:stretch/>
        </p:blipFill>
        <p:spPr>
          <a:xfrm>
            <a:off x="5929200" y="3714840"/>
            <a:ext cx="32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8000" y="837000"/>
            <a:ext cx="61005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57160" y="2428560"/>
            <a:ext cx="71438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Автоматизация и модерно оборудван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Модернизация на автопар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Оптимизация на енергийните разх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Сертификация и внедряване на системат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CCP 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и ДП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2" descr="http://t3.gstatic.com/images?q=tbn:ANd9GcTlDmBFjLZI_2ukd7Jtt9L9slzEg2M1ddgfuD1VjzyvHTugGmfw"/>
          <p:cNvPicPr/>
          <p:nvPr/>
        </p:nvPicPr>
        <p:blipFill>
          <a:blip r:embed="rId1"/>
          <a:stretch/>
        </p:blipFill>
        <p:spPr>
          <a:xfrm>
            <a:off x="6429240" y="4948200"/>
            <a:ext cx="2714760" cy="190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t3.gstatic.com/images?q=tbn:ANd9GcRMRpF-6z2Yx9xyD1GSd17dDdpMCxwjVcpounqAet5RwEbnTWoJ"/>
          <p:cNvPicPr/>
          <p:nvPr/>
        </p:nvPicPr>
        <p:blipFill>
          <a:blip r:embed="rId2"/>
          <a:stretch/>
        </p:blipFill>
        <p:spPr>
          <a:xfrm>
            <a:off x="6929280" y="0"/>
            <a:ext cx="2214720" cy="1847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t2.gstatic.com/images?q=tbn:ANd9GcRiHEilAMONQ1KKCjMHUwjG3dtXl3tCwYnuO7XNsfT6nxQBx1IC"/>
          <p:cNvPicPr/>
          <p:nvPr/>
        </p:nvPicPr>
        <p:blipFill>
          <a:blip r:embed="rId3"/>
          <a:stretch/>
        </p:blipFill>
        <p:spPr>
          <a:xfrm>
            <a:off x="3643200" y="500076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t3.gstatic.com/images?q=tbn:ANd9GcSIE_itie6zO4xEvNnIpdOMBBu-wIwaLCJrTAlyohNrp0mNc3g1"/>
          <p:cNvPicPr/>
          <p:nvPr/>
        </p:nvPicPr>
        <p:blipFill>
          <a:blip r:embed="rId4"/>
          <a:stretch/>
        </p:blipFill>
        <p:spPr>
          <a:xfrm>
            <a:off x="785880" y="5010120"/>
            <a:ext cx="2786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Съвременни предизвикателства в производството на хр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граниченост на ресурсите за производство на суровини от земеделие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растване броя на населението – 2025г. 8 000 000 000 душ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еобходимост от повишаване производителността на храни с 4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еравномерно географско разпределение между благосъстояние, поземлени и технологични ресурси, и консуматорски нуж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57160" y="1214280"/>
            <a:ext cx="7929720" cy="4691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1639440" y="277560"/>
            <a:ext cx="744084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Карта за ръста на населението в световен мащаб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66"/>
                </a:solidFill>
                <a:latin typeface="Arial"/>
              </a:rPr>
              <a:t>Решения пред съвременните предизвикателства за задоволяване на нуждите от хран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Разработване на нови технологии и иновации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Пестеливо използване на хранителните ресурси и ограничаване на консуматорство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Ограничение на консумацията чрез повишаване енергийната стойност на хранит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http://t1.gstatic.com/images?q=tbn:ANd9GcSR-ep4qiYgIWbcoCFnmlnuAf6Fraujp8YuyRJLA7AGiAEWDdfxUA"/>
          <p:cNvPicPr/>
          <p:nvPr/>
        </p:nvPicPr>
        <p:blipFill>
          <a:blip r:embed="rId1"/>
          <a:stretch/>
        </p:blipFill>
        <p:spPr>
          <a:xfrm>
            <a:off x="6715080" y="0"/>
            <a:ext cx="24289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56800" y="499680"/>
            <a:ext cx="7734600" cy="131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6666"/>
                </a:solidFill>
                <a:latin typeface="Arial"/>
              </a:rPr>
              <a:t>Значение на иновациите в хранителната индустр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10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качеството на крайния продук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безопасността на хранит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производителност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енергийната ефективн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граничаване на човешкият фактор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маляване на производствените разхо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на конкурентноспособност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утилизацият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Значение на високотехнологичните храни за здраве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http://t2.gstatic.com/images?q=tbn:ANd9GcT4b0nlRarjy2JtKPZOo8b1ZjPdR9UuFRqiJjrexINII2KpbI716Q"/>
          <p:cNvPicPr/>
          <p:nvPr/>
        </p:nvPicPr>
        <p:blipFill>
          <a:blip r:embed="rId1"/>
          <a:stretch/>
        </p:blipFill>
        <p:spPr>
          <a:xfrm>
            <a:off x="7643880" y="21420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http://t3.gstatic.com/images?q=tbn:ANd9GcTExmtJqgceuMgBC9CkRW9xee2XeX0Q8sbWubH3fJOxyff9pH4l"/>
          <p:cNvPicPr/>
          <p:nvPr/>
        </p:nvPicPr>
        <p:blipFill>
          <a:blip r:embed="rId2"/>
          <a:stretch/>
        </p:blipFill>
        <p:spPr>
          <a:xfrm>
            <a:off x="5643720" y="14292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http://t3.gstatic.com/images?q=tbn:ANd9GcQSEMv4zs1wt8QbWvIY7q1Ei1bUl3o3SdepTX44KgV4W-BB1kl0Jw"/>
          <p:cNvPicPr/>
          <p:nvPr/>
        </p:nvPicPr>
        <p:blipFill>
          <a:blip r:embed="rId3"/>
          <a:stretch/>
        </p:blipFill>
        <p:spPr>
          <a:xfrm>
            <a:off x="3857760" y="142920"/>
            <a:ext cx="866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Историческо развитие в производството на хр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Екстензивност на производството до началото на индустриалната револю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Зелена” революция, индустриализация и технологизация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Интензивност в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Рационалност при производството на хра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572160" y="428760"/>
            <a:ext cx="1928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Тенденции в съвременното производ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Окрупняване на производствот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Бутиково производств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Безопастност на хранит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Повишаване броя на технологичните опер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3366"/>
                </a:solidFill>
                <a:latin typeface="Arial"/>
              </a:rPr>
              <a:t>Намаляване стойностния дял на първичната суровина спрямо стойността на крайния продук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http://t2.gstatic.com/images?q=tbn:ANd9GcS2ksiQkofgGV9UirsxgxmUucNjzYaDRO5ZYGuiMIto3MHsPygb8A"/>
          <p:cNvPicPr/>
          <p:nvPr/>
        </p:nvPicPr>
        <p:blipFill>
          <a:blip r:embed="rId1"/>
          <a:stretch/>
        </p:blipFill>
        <p:spPr>
          <a:xfrm>
            <a:off x="1143000" y="478620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4359240" y="-7318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4359240" y="-7318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http://www.regal.bg/lib/showimg.php?filename=zx250_377617.jpg"/>
          <p:cNvPicPr/>
          <p:nvPr/>
        </p:nvPicPr>
        <p:blipFill>
          <a:blip r:embed="rId2"/>
          <a:stretch/>
        </p:blipFill>
        <p:spPr>
          <a:xfrm>
            <a:off x="3786120" y="4786200"/>
            <a:ext cx="2381400" cy="192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http://t2.gstatic.com/images?q=tbn:ANd9GcRDvS9wpAIGm5vPsRTSZ4S6bVx-XHogzl99Cl5B-ZHuqMfXrglSxQ"/>
          <p:cNvPicPr/>
          <p:nvPr/>
        </p:nvPicPr>
        <p:blipFill>
          <a:blip r:embed="rId3"/>
          <a:stretch/>
        </p:blipFill>
        <p:spPr>
          <a:xfrm>
            <a:off x="6357960" y="4786200"/>
            <a:ext cx="2467080" cy="192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http://t1.gstatic.com/images?q=tbn:ANd9GcSB3P3pyBtKE0jGr7f2vw8f9YCFpae8-S60oJQfSXs3jAXxwkuY"/>
          <p:cNvPicPr/>
          <p:nvPr/>
        </p:nvPicPr>
        <p:blipFill>
          <a:blip r:embed="rId4"/>
          <a:stretch/>
        </p:blipFill>
        <p:spPr>
          <a:xfrm>
            <a:off x="6715080" y="142920"/>
            <a:ext cx="2214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6666"/>
                </a:solidFill>
                <a:latin typeface="Arial"/>
              </a:rPr>
              <a:t>Анализ на технологичното развитие в секто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технологичната ба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автопарк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Състояние на човешките ресурс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Психологическа нагласа за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3366"/>
                </a:solidFill>
                <a:latin typeface="Arial"/>
              </a:rPr>
              <a:t>Възможности за технологично развит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5" descr="http://t1.gstatic.com/images?q=tbn:ANd9GcQMdvf8Jga49Ehobyax8c9CGAJ7J25GevEJmI-qVbe9ej6o2HS_"/>
          <p:cNvPicPr/>
          <p:nvPr/>
        </p:nvPicPr>
        <p:blipFill>
          <a:blip r:embed="rId1"/>
          <a:stretch/>
        </p:blipFill>
        <p:spPr>
          <a:xfrm>
            <a:off x="857160" y="4876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214800" y="4896000"/>
            <a:ext cx="2143080" cy="196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t2.gstatic.com/images?q=tbn:ANd9GcSViMTK6o1PznE8h5SYDz-LAPzLW_ghTc46dfjhuVQPikndq2u9"/>
          <p:cNvPicPr/>
          <p:nvPr/>
        </p:nvPicPr>
        <p:blipFill>
          <a:blip r:embed="rId3"/>
          <a:stretch/>
        </p:blipFill>
        <p:spPr>
          <a:xfrm>
            <a:off x="5857920" y="4929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6666"/>
                </a:solidFill>
                <a:latin typeface="Arial"/>
              </a:rPr>
              <a:t>Примери за технологичен напредък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57160" y="2357280"/>
            <a:ext cx="763128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3366"/>
                </a:solidFill>
                <a:latin typeface="Arial"/>
              </a:rPr>
              <a:t>Биологични препарати за растителна защита в земеделието и в полза на хранителната индуст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2" descr="http://t0.gstatic.com/images?q=tbn:ANd9GcQ_IFbLAV-rRh1WzqQZbdaKRs5qezj95_ncqDpJVxJKJxXJYhZA"/>
          <p:cNvPicPr/>
          <p:nvPr/>
        </p:nvPicPr>
        <p:blipFill>
          <a:blip r:embed="rId1"/>
          <a:stretch/>
        </p:blipFill>
        <p:spPr>
          <a:xfrm>
            <a:off x="928800" y="4000680"/>
            <a:ext cx="2571480" cy="2371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t1.gstatic.com/images?q=tbn:ANd9GcQQ5pp7N3uF1Jn5MGdmqST-lv1RQSVxuNnuwQct_Dbsj-ku-WBPuA"/>
          <p:cNvPicPr/>
          <p:nvPr/>
        </p:nvPicPr>
        <p:blipFill>
          <a:blip r:embed="rId2"/>
          <a:stretch/>
        </p:blipFill>
        <p:spPr>
          <a:xfrm>
            <a:off x="6357960" y="4000680"/>
            <a:ext cx="2562120" cy="23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t2.gstatic.com/images?q=tbn:ANd9GcRHRa1LV33HGbnZ2ZE4hMIOpr9o_fInYlyXAsrctLrKH9tatmVV"/>
          <p:cNvPicPr/>
          <p:nvPr/>
        </p:nvPicPr>
        <p:blipFill>
          <a:blip r:embed="rId3"/>
          <a:stretch/>
        </p:blipFill>
        <p:spPr>
          <a:xfrm>
            <a:off x="3643200" y="4000680"/>
            <a:ext cx="2571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0:48:07Z</dcterms:created>
  <dc:creator>Ivailo</dc:creator>
  <dc:description/>
  <dc:language>en-US</dc:language>
  <cp:lastModifiedBy>Dömsödi József</cp:lastModifiedBy>
  <dcterms:modified xsi:type="dcterms:W3CDTF">2012-06-08T09:59:39Z</dcterms:modified>
  <cp:revision>79</cp:revision>
  <dc:subject/>
  <dc:title>Повишаване на качеството и безопасносттана храните и нови тенденции вхранителните технологии </dc:title>
</cp:coreProperties>
</file>