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780-F265-4217-951E-DE28B475C45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6AC-8BBA-4EAF-936C-225270D9511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0FB-44B7-4285-95FA-B84FFFBCC58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64F4-CB51-4529-A196-B6B48A4FEE3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FC2-DCAA-4FDA-894F-D4C3F8E4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A07-9F8E-4FD6-8653-7D00F1C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9A0-3F57-436A-9BCE-0EED0595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EA7-5314-483B-A32F-CB6CAF0E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47A3-8405-47A4-8519-A7323CF3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EC5B-E9CD-4979-A978-0316484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578D-C5E1-4987-982D-B7077C44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742B-1B34-4757-A3C0-1EED7887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8ED-C54B-4FE8-995F-E62B932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7D7E-934F-4B52-8DFD-CD6D128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E825-5A9A-490E-A9B6-62E633E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946-C758-46A9-B8DD-6D50BB5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4FCD-965F-4FDC-9B56-BF907B6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3250-88F7-415F-A7D9-2BA34EB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51AE-8175-4368-A3FC-5A274D83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85C2-57E1-41F7-B100-BB5C637E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48CD-4370-478E-89D0-B71A10EE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1C8-357D-4853-873E-BB62AB50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EB0-5026-45C6-BD22-D34E65C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3D3-FA5B-4A2C-AD55-013E745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004-A96C-4C7B-AABC-D449981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5B0-815E-4E9B-A26A-1F24538D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4D5-7AE0-44AE-8FF2-B3133AC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063-F354-49F9-A943-ED67966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2BCC-D22A-4660-9179-81CC291BCD9B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A0D9-6EB3-45F0-AD53-1A21593FCBA7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50840" y="1275840"/>
            <a:ext cx="739800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3366"/>
                </a:solidFill>
                <a:latin typeface="Arial"/>
              </a:rPr>
              <a:t>Повишаване на качеството и безопасностт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3366"/>
                </a:solidFill>
                <a:latin typeface="Arial"/>
              </a:rPr>
              <a:t>на храните и нови тенденции вхранителните технологи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278100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bg-BG" sz="2000" spc="-1" strike="noStrike">
                <a:solidFill>
                  <a:srgbClr val="33cccc"/>
                </a:solidFill>
                <a:latin typeface="Arial"/>
              </a:rPr>
              <a:t>По проект “InnoFOOD SEE”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финансиран по програма Транс-национално сътрудничество Югоизточна Европ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6666"/>
                </a:solidFill>
                <a:latin typeface="Arial"/>
              </a:rPr>
              <a:t>Ивайло Мандинс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6666"/>
                </a:solidFill>
                <a:latin typeface="Arial"/>
              </a:rPr>
              <a:t>Пазарджик, 29.05.2012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3760" cy="628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164840" y="2768400"/>
            <a:ext cx="814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2987640" y="0"/>
          <a:ext cx="227664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0"/>
                    <a:ext cx="2276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9"/>
          <p:cNvSpPr/>
          <p:nvPr/>
        </p:nvSpPr>
        <p:spPr>
          <a:xfrm>
            <a:off x="4204440" y="3957120"/>
            <a:ext cx="7351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810560" y="0"/>
          <a:ext cx="133344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10560" y="0"/>
                    <a:ext cx="1333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0"/>
          <p:cNvSpPr/>
          <p:nvPr/>
        </p:nvSpPr>
        <p:spPr>
          <a:xfrm>
            <a:off x="0" y="471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56800" y="2356920"/>
            <a:ext cx="4286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3366"/>
                </a:solidFill>
                <a:latin typeface="Arial"/>
              </a:rPr>
              <a:t>Биотехнологи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7" descr="http://t1.gstatic.com/images?q=tbn:ANd9GcS1ockWyaXArpoqfnxkatAlYw0ipuI1yZfX8_lrtP7Yx9NNyqPV"/>
          <p:cNvPicPr/>
          <p:nvPr/>
        </p:nvPicPr>
        <p:blipFill>
          <a:blip r:embed="rId1"/>
          <a:stretch/>
        </p:blipFill>
        <p:spPr>
          <a:xfrm>
            <a:off x="785880" y="3643200"/>
            <a:ext cx="3786120" cy="32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t2.gstatic.com/images?q=tbn:ANd9GcTIhivZa38nWj8KgjrgJCZ2NwCGWF5TBAcDAz26xtSkZEUBBwY"/>
          <p:cNvPicPr/>
          <p:nvPr/>
        </p:nvPicPr>
        <p:blipFill>
          <a:blip r:embed="rId2"/>
          <a:stretch/>
        </p:blipFill>
        <p:spPr>
          <a:xfrm>
            <a:off x="6929280" y="14292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http://t0.gstatic.com/images?q=tbn:ANd9GcSF3--6rYxx357Cfv1PW7aGMbBcfQK14zq4zW2sEgzCYRKSqdJWUg"/>
          <p:cNvPicPr/>
          <p:nvPr/>
        </p:nvPicPr>
        <p:blipFill>
          <a:blip r:embed="rId3"/>
          <a:stretch/>
        </p:blipFill>
        <p:spPr>
          <a:xfrm>
            <a:off x="4572000" y="3543480"/>
            <a:ext cx="138096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http://t0.gstatic.com/images?q=tbn:ANd9GcSPJuLAc9pOsIU1olK3Wx8tuJ0w0JGf1o-42OliIBQEvELQPKX_BYBLZ5rJ_Q"/>
          <p:cNvPicPr/>
          <p:nvPr/>
        </p:nvPicPr>
        <p:blipFill>
          <a:blip r:embed="rId4"/>
          <a:stretch/>
        </p:blipFill>
        <p:spPr>
          <a:xfrm>
            <a:off x="5929200" y="3714840"/>
            <a:ext cx="32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8000" y="837000"/>
            <a:ext cx="610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7160" y="2428560"/>
            <a:ext cx="71438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Автоматизация и модерно оборудван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Модернизация на автопар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Оптимизация на енергийните разх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Сертификация и внедряване на системат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CCP 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и ДП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2" descr="http://t3.gstatic.com/images?q=tbn:ANd9GcTlDmBFjLZI_2ukd7Jtt9L9slzEg2M1ddgfuD1VjzyvHTugGmfw"/>
          <p:cNvPicPr/>
          <p:nvPr/>
        </p:nvPicPr>
        <p:blipFill>
          <a:blip r:embed="rId1"/>
          <a:stretch/>
        </p:blipFill>
        <p:spPr>
          <a:xfrm>
            <a:off x="6429240" y="4948200"/>
            <a:ext cx="2714760" cy="190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3.gstatic.com/images?q=tbn:ANd9GcRMRpF-6z2Yx9xyD1GSd17dDdpMCxwjVcpounqAet5RwEbnTWoJ"/>
          <p:cNvPicPr/>
          <p:nvPr/>
        </p:nvPicPr>
        <p:blipFill>
          <a:blip r:embed="rId2"/>
          <a:stretch/>
        </p:blipFill>
        <p:spPr>
          <a:xfrm>
            <a:off x="6929280" y="0"/>
            <a:ext cx="2214720" cy="184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t2.gstatic.com/images?q=tbn:ANd9GcRiHEilAMONQ1KKCjMHUwjG3dtXl3tCwYnuO7XNsfT6nxQBx1IC"/>
          <p:cNvPicPr/>
          <p:nvPr/>
        </p:nvPicPr>
        <p:blipFill>
          <a:blip r:embed="rId3"/>
          <a:stretch/>
        </p:blipFill>
        <p:spPr>
          <a:xfrm>
            <a:off x="3643200" y="500076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t3.gstatic.com/images?q=tbn:ANd9GcSIE_itie6zO4xEvNnIpdOMBBu-wIwaLCJrTAlyohNrp0mNc3g1"/>
          <p:cNvPicPr/>
          <p:nvPr/>
        </p:nvPicPr>
        <p:blipFill>
          <a:blip r:embed="rId4"/>
          <a:stretch/>
        </p:blipFill>
        <p:spPr>
          <a:xfrm>
            <a:off x="785880" y="5010120"/>
            <a:ext cx="2786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Съвременни предизвикателства в производството на хр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граниченост на ресурсите за производство на суровини от земеделие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растване броя на населението – 2025г. 8 000 000 000 душ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еобходимост от повишаване производителността на храни с 4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еравномерно географско разпределение между благосъстояние, поземлени и технологични ресурси, и консуматорски нуж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929720" cy="4691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639440" y="277560"/>
            <a:ext cx="744084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Карта за ръста на населението в световен мащаб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66"/>
                </a:solidFill>
                <a:latin typeface="Arial"/>
              </a:rPr>
              <a:t>Решения пред съвременните предизвикателства за задоволяване на нуждите от хран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Разработване на нови технологии и иновации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Пестеливо използване на хранителните ресурси и ограничаване на консуматорство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Ограничение на консумацията чрез повишаване енергийната стойност на храни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http://t1.gstatic.com/images?q=tbn:ANd9GcSR-ep4qiYgIWbcoCFnmlnuAf6Fraujp8YuyRJLA7AGiAEWDdfxUA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56800" y="499680"/>
            <a:ext cx="773460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66"/>
                </a:solidFill>
                <a:latin typeface="Arial"/>
              </a:rPr>
              <a:t>Значение на иновациите в хранителната индустр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качеството на крайния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безопасността на хранит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производителност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енергийната ефективн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граничаване на човешкият фактор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маляване на производствените разхо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конкурентноспособност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утилизацият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Значение на високотехнологичните храни за здраве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t2.gstatic.com/images?q=tbn:ANd9GcT4b0nlRarjy2JtKPZOo8b1ZjPdR9UuFRqiJjrexINII2KpbI716Q"/>
          <p:cNvPicPr/>
          <p:nvPr/>
        </p:nvPicPr>
        <p:blipFill>
          <a:blip r:embed="rId1"/>
          <a:stretch/>
        </p:blipFill>
        <p:spPr>
          <a:xfrm>
            <a:off x="7643880" y="21420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http://t3.gstatic.com/images?q=tbn:ANd9GcTExmtJqgceuMgBC9CkRW9xee2XeX0Q8sbWubH3fJOxyff9pH4l"/>
          <p:cNvPicPr/>
          <p:nvPr/>
        </p:nvPicPr>
        <p:blipFill>
          <a:blip r:embed="rId2"/>
          <a:stretch/>
        </p:blipFill>
        <p:spPr>
          <a:xfrm>
            <a:off x="564372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http://t3.gstatic.com/images?q=tbn:ANd9GcQSEMv4zs1wt8QbWvIY7q1Ei1bUl3o3SdepTX44KgV4W-BB1kl0Jw"/>
          <p:cNvPicPr/>
          <p:nvPr/>
        </p:nvPicPr>
        <p:blipFill>
          <a:blip r:embed="rId3"/>
          <a:stretch/>
        </p:blipFill>
        <p:spPr>
          <a:xfrm>
            <a:off x="3857760" y="142920"/>
            <a:ext cx="866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Историческо развитие в производството на хр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Екстензивност на производството до началото на индустриалната револю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Зелена” революция, индустриализация и технологизация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Интензивност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Рационалност при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572160" y="428760"/>
            <a:ext cx="1928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Тенденции в съвременното производ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крупняване на производствот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Бутиково производст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Безопастност на хранит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броя на технологичните опер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маляване стойностния дял на първичната суровина спрямо стойността на крайния продук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http://t2.gstatic.com/images?q=tbn:ANd9GcS2ksiQkofgGV9UirsxgxmUucNjzYaDRO5ZYGuiMIto3MHsPygb8A"/>
          <p:cNvPicPr/>
          <p:nvPr/>
        </p:nvPicPr>
        <p:blipFill>
          <a:blip r:embed="rId1"/>
          <a:stretch/>
        </p:blipFill>
        <p:spPr>
          <a:xfrm>
            <a:off x="1143000" y="478620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4359240" y="-7318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4359240" y="-7318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http://www.regal.bg/lib/showimg.php?filename=zx250_377617.jpg"/>
          <p:cNvPicPr/>
          <p:nvPr/>
        </p:nvPicPr>
        <p:blipFill>
          <a:blip r:embed="rId2"/>
          <a:stretch/>
        </p:blipFill>
        <p:spPr>
          <a:xfrm>
            <a:off x="3786120" y="4786200"/>
            <a:ext cx="2381400" cy="192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http://t2.gstatic.com/images?q=tbn:ANd9GcRDvS9wpAIGm5vPsRTSZ4S6bVx-XHogzl99Cl5B-ZHuqMfXrglSxQ"/>
          <p:cNvPicPr/>
          <p:nvPr/>
        </p:nvPicPr>
        <p:blipFill>
          <a:blip r:embed="rId3"/>
          <a:stretch/>
        </p:blipFill>
        <p:spPr>
          <a:xfrm>
            <a:off x="6357960" y="4786200"/>
            <a:ext cx="2467080" cy="19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http://t1.gstatic.com/images?q=tbn:ANd9GcSB3P3pyBtKE0jGr7f2vw8f9YCFpae8-S60oJQfSXs3jAXxwkuY"/>
          <p:cNvPicPr/>
          <p:nvPr/>
        </p:nvPicPr>
        <p:blipFill>
          <a:blip r:embed="rId4"/>
          <a:stretch/>
        </p:blipFill>
        <p:spPr>
          <a:xfrm>
            <a:off x="6715080" y="142920"/>
            <a:ext cx="2214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Анализ на технологичното развитие в секто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технологичната ба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автопар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човешките ресурс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Психологическа нагласа за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Възможности за технологично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http://t1.gstatic.com/images?q=tbn:ANd9GcQMdvf8Jga49Ehobyax8c9CGAJ7J25GevEJmI-qVbe9ej6o2HS_"/>
          <p:cNvPicPr/>
          <p:nvPr/>
        </p:nvPicPr>
        <p:blipFill>
          <a:blip r:embed="rId1"/>
          <a:stretch/>
        </p:blipFill>
        <p:spPr>
          <a:xfrm>
            <a:off x="85716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214800" y="4896000"/>
            <a:ext cx="214308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t2.gstatic.com/images?q=tbn:ANd9GcSViMTK6o1PznE8h5SYDz-LAPzLW_ghTc46dfjhuVQPikndq2u9"/>
          <p:cNvPicPr/>
          <p:nvPr/>
        </p:nvPicPr>
        <p:blipFill>
          <a:blip r:embed="rId3"/>
          <a:stretch/>
        </p:blipFill>
        <p:spPr>
          <a:xfrm>
            <a:off x="5857920" y="4929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57160" y="2357280"/>
            <a:ext cx="763128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Биологични препарати за растителна защита в земеделието и в полза на хранителната индуст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2" descr="http://t0.gstatic.com/images?q=tbn:ANd9GcQ_IFbLAV-rRh1WzqQZbdaKRs5qezj95_ncqDpJVxJKJxXJYhZA"/>
          <p:cNvPicPr/>
          <p:nvPr/>
        </p:nvPicPr>
        <p:blipFill>
          <a:blip r:embed="rId1"/>
          <a:stretch/>
        </p:blipFill>
        <p:spPr>
          <a:xfrm>
            <a:off x="928800" y="4000680"/>
            <a:ext cx="2571480" cy="237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ANd9GcQQ5pp7N3uF1Jn5MGdmqST-lv1RQSVxuNnuwQct_Dbsj-ku-WBPuA"/>
          <p:cNvPicPr/>
          <p:nvPr/>
        </p:nvPicPr>
        <p:blipFill>
          <a:blip r:embed="rId2"/>
          <a:stretch/>
        </p:blipFill>
        <p:spPr>
          <a:xfrm>
            <a:off x="6357960" y="4000680"/>
            <a:ext cx="2562120" cy="23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t2.gstatic.com/images?q=tbn:ANd9GcRHRa1LV33HGbnZ2ZE4hMIOpr9o_fInYlyXAsrctLrKH9tatmVV"/>
          <p:cNvPicPr/>
          <p:nvPr/>
        </p:nvPicPr>
        <p:blipFill>
          <a:blip r:embed="rId3"/>
          <a:stretch/>
        </p:blipFill>
        <p:spPr>
          <a:xfrm>
            <a:off x="3643200" y="4000680"/>
            <a:ext cx="2571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0:48:07Z</dcterms:created>
  <dc:creator>Ivailo</dc:creator>
  <dc:description/>
  <dc:language>en-US</dc:language>
  <cp:lastModifiedBy>Dömsödi József</cp:lastModifiedBy>
  <dcterms:modified xsi:type="dcterms:W3CDTF">2012-06-08T09:59:39Z</dcterms:modified>
  <cp:revision>79</cp:revision>
  <dc:subject/>
  <dc:title>Повишаване на качеството и безопасносттана храните и нови тенденции вхранителните технологии </dc:title>
</cp:coreProperties>
</file>