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C5C4-C217-47F2-A933-872969007F24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81CB-78B5-4975-87B1-51FC843A7D1B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1EDC-8EEE-4639-BA8C-AED9FC9CB159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3D8A-1B3E-4776-936B-728A4918CE76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A9C-6E2F-48B7-9296-B996659C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11D-E0D7-41FA-B1FB-62A717D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37B-69F9-425C-9F4F-4E14FE60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648-81E5-4307-920D-AEE9E245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DD0-4D41-4BA2-992C-2FA838B7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DE6-3933-4F3A-AA77-9D3C2306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DCF-86BB-4792-8A78-967C8AD3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A41-1CE0-40B3-AD4D-AAD503F9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8AF-A79C-498D-B3BA-970A1F86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A15-A94F-4C81-917C-147E496D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38B-9361-4EEC-9A82-4DB3FB66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EFA-27A1-4933-AED4-CA5CD71E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39D-6DFB-44B1-97C2-D36BA7AEF7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"/>
          <p:cNvPicPr/>
          <p:nvPr/>
        </p:nvPicPr>
        <p:blipFill>
          <a:blip r:embed="rId4"/>
          <a:stretch/>
        </p:blipFill>
        <p:spPr>
          <a:xfrm>
            <a:off x="369720" y="11592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429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2340000" y="2746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Picture 11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4"/>
          <a:stretch/>
        </p:blipFill>
        <p:spPr>
          <a:xfrm>
            <a:off x="250920" y="217440"/>
            <a:ext cx="1958760" cy="4572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96840" y="577800"/>
            <a:ext cx="2549520" cy="106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4"/>
          <a:stretch/>
        </p:blipFill>
        <p:spPr>
          <a:xfrm>
            <a:off x="685800" y="714240"/>
            <a:ext cx="1959120" cy="459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259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936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380880" y="739800"/>
            <a:ext cx="1959120" cy="4586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8"/>
          <p:cNvSpPr/>
          <p:nvPr/>
        </p:nvSpPr>
        <p:spPr>
          <a:xfrm>
            <a:off x="380880" y="6172200"/>
            <a:ext cx="8382240" cy="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685800" y="6269040"/>
            <a:ext cx="1371600" cy="554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3"/>
          <a:stretch/>
        </p:blipFill>
        <p:spPr>
          <a:xfrm>
            <a:off x="7718400" y="6269040"/>
            <a:ext cx="816120" cy="5540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4"/>
          <a:stretch/>
        </p:blipFill>
        <p:spPr>
          <a:xfrm>
            <a:off x="7147080" y="115920"/>
            <a:ext cx="1958760" cy="458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otdeleirr@abv.b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35736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3143160"/>
                <a:tab algn="l" pos="6286680"/>
                <a:tab algn="l" pos="942984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Проект INNO FOOD SEE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Изграждане на механизми в подкрепа на иновациите и повишаване на информираността относно потенциала на иновациите и научно-техническото развитие в хранителната промишленост в Югоизточна Европа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SEE/B/0028/1.3/X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98989"/>
                </a:solidFill>
                <a:latin typeface="Calibri"/>
              </a:rPr>
              <a:t>ИНФОРМАЦИОНЕН    Д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898989"/>
                </a:solidFill>
                <a:latin typeface="Calibri"/>
              </a:rPr>
              <a:t>ПАЗАРДЖИК, 29.05.2012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Calibri"/>
              </a:rPr>
              <a:t>Цели на проекта: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- Създаване на подходящи механизми за подпомагане обмена и координирането на научно-изследователския и технологичния подход и политиките в областта на производството на храни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- Повишаване на обществената информираност относно значението на технологичния прогрес и иновациите в областта на производството на храни в зоната на Югоизточ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Aнализ и сравнение на съществуващи политики, планове и инициативи за иновации в производството на храни в участващите регио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SWOT анализ за иновациите в производството на храни в участващите регио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Оперативни планове за научни разработки и иноваци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Изследване на потенциала за инвестиране в иновации в производството на хра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Мониторингов механизъм за проследяване на иновациите в производството на хран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157176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База данни с профилите на приблизително 250 научни звена и с технологичните нужди на 400 предприятия за храни, която да служи за подобряване на сътрудничеството между тях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редложения за актуализиране на съществуващи учебни програми в отговор на сегашните тенденции в областта на иновациите в производството на хра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Информационно-технологичен инструментариум, предназначен за студенти и учени в областта на науките за храните;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71680" y="149976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Очаквани резултати (3)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Меморандум за разбирателство и мрежа от заинтересовани страни и лица, отговорни за вземане на решения за развитието на транснационалната система за иновации в производството на храни; 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Работа в мрежи и обмен между индустрията и нау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ните звена с цел развиване на транснационалното сътрудничество за иновации в производството на хра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Очаквани резултати (4) 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- Обучени участници в областта на иновациите в производството на храни и финансирането на научни разработки; </a:t>
            </a:r>
            <a:br>
              <a:rPr sz="3200"/>
            </a:b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- Научно-изследователски кадри от всички партньори ще бъдат обучени на място по теми относно иновациите в производството на хра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ект Inno- Food SEE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и поставя за цел да бъде катализатор за иновациите в участващите страни и да бъде успешен пример, който да бъде последван и в други производствени и научно-изследователски сектори; методологията и резултатите ще бъдат предадени да могат да бъдат използвани и на европейско равнищ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Завършени дейности по проекта от ОА: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о дейност 3.1. – Изготвен Анализ и картиране на политики, планове и инициативи, свързани с иновации в производството на храни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по дейност 3.2. – Извършена оценка на технологичните нужди на 50 фирми от хранителния сектор на база на попълнени въпросници по проекта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по дейност 3.3. изготвен SWOT анализ за иновациите в производството на 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000000"/>
                </a:solidFill>
                <a:latin typeface="Calibri"/>
              </a:rPr>
              <a:t>БЛАГОДАРЯ ЗА ВНИМАНИЕТО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98989"/>
                </a:solidFill>
                <a:latin typeface="Calibri"/>
              </a:rPr>
              <a:t>Гергана Калоя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898989"/>
                </a:solidFill>
                <a:latin typeface="Calibri"/>
              </a:rPr>
              <a:t>Тел.034/40 00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-mail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tdeleirr@abv.bg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9581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ект INNO FOOD SEE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е финансиран по Оперативна програма за транснационално сътрудничество “Югоизточна Европа” 2007 – 2013 година</a:t>
            </a:r>
            <a:br>
              <a:rPr sz="3200"/>
            </a:b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Общ бюджет на проекта – 1 682 245 евро</a:t>
            </a: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Бюджет на ОА – 90 000 евро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Начало на проекта 03.2011 г.</a:t>
            </a:r>
            <a:br>
              <a:rPr sz="3200"/>
            </a:br>
            <a:r>
              <a:rPr b="1" lang="bg-BG" sz="3200" spc="-1" strike="noStrike">
                <a:solidFill>
                  <a:srgbClr val="000000"/>
                </a:solidFill>
                <a:latin typeface="Calibri"/>
              </a:rPr>
              <a:t>Продължителност – 30 месе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394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 по проекта: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Водещ партньор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Център за изследвания и технологии Hellas, Институт по агробиотехнологии (EKETA- INA) Гърция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Федерация на индустриите на Северна Гърция, (SVVE) Гърц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ен изследователски съвет – Институт по науки за храни, (CNR/ISPA ) Итал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Аграрен университет Пловдив (AUP) Бъл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Областна администрация Пазарджик, (OAP) Бъл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ен институт за изследвания и развитие в областта на биоресурсите за храни,  (IBA) Румъ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444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Партньори по проекта (2):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Камара на търговията, параходството и селското стопанство Констанца (CCINA) Румън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Агенция за развитие на Идрия и Черкно, (ICRA) Словен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Европейски парламент по хранителната верига -Foodlawment, (EEPF) Унгария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Национална академия по хранителни технологии Одеса (ONAFT) Украйн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Търговско-индустриална камара на Република Молдова (CCIRM) Република Молдов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- Институт по хранителни тенологии (FINS) Сърб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499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Дейности по Работни пакети (Р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56800" y="2428920"/>
            <a:ext cx="76438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РП 1 “Транснационално управление на проекта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Дейност 1.1.  Управление на проекта и финансово упра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Дейност 1.2. Координация на проекта.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810108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РП 2 “Комуникационни дейности”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2.1. Разработване, мониторинг и оценка на Комуникационен план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2.2. Уебсайт на проекта и база данни на партньорите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- 2.3. Дейности, насочени към студенти и изследователи;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2.4. Дейности, насочени към широката общественост;</a:t>
            </a:r>
            <a:br>
              <a:rPr sz="2800"/>
            </a:b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- 2.5. Информационни дни и заключителна конференц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3568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РП 3 “Анализ на политиките и стратегиите за иновации в производството на храни “</a:t>
            </a: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1. Картиране, анализ и сравнение на политики, планове и инициативи, свързани с иновации в производството на храни; 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2. Идентифициране на ключови научни звена и оценка на технологичните нужди на  фирми от хранителния сектор;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3.3. SWOT анализ за иновациите в производството на храни;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3.4.  Препоръки за формулиране на политики за иновации в производството на хра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Calibri"/>
              </a:rPr>
              <a:t>РП 4 “Изграждане на механизми за подкрепа на иновациите в производството на храни”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- 4.1. Създаване на мрежа от заинтересовани страни и лица, отговорни за вземането на решения;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2. Изготвяне на оперативни планове за научни разработки и иновации в производството на храни;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3. Изследване на потенциала за инвестиране в иновации в производството на храни; </a:t>
            </a: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600"/>
            </a:br>
            <a:r>
              <a:rPr b="0" lang="bg-BG" sz="2600" spc="-1" strike="noStrike">
                <a:solidFill>
                  <a:srgbClr val="000000"/>
                </a:solidFill>
                <a:latin typeface="Calibri"/>
              </a:rPr>
              <a:t> - 4.4.Изграждане на мониторингов механизъм  за проследяване и подкрепа на иновациите в производството на храни.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Calibri"/>
              </a:rPr>
              <a:t>РП 5 “Създаване на мрежи, обучение и обмен на опит в областта на иновациите в производството на храни” </a:t>
            </a: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1 Разработване на материали за обучение; 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2. Работни семинари в областта на иновациите в производството на храни;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3. Работа в мрежи и съвместни инициативи;</a:t>
            </a:r>
            <a:br>
              <a:rPr sz="3000"/>
            </a:b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 - 5.4. Обучения на научно-изследователски кад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Calibri"/>
              </a:rPr>
              <a:t>Inno-FOO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06:50:14Z</dcterms:created>
  <dc:creator>LenovoTP</dc:creator>
  <dc:description/>
  <dc:language>en-US</dc:language>
  <cp:lastModifiedBy>GERI</cp:lastModifiedBy>
  <dcterms:modified xsi:type="dcterms:W3CDTF">2012-05-28T07:08:14Z</dcterms:modified>
  <cp:revision>60</cp:revision>
  <dc:subject/>
  <dc:title>Slide 1</dc:title>
</cp:coreProperties>
</file>