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4DA0-01C4-49F9-B39E-D6FB1BAAC860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4BF4-C6AD-43D7-A6FA-C76055220F19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E3CA-FFC8-4508-AC6D-7E9CEFAB4A02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627B-4207-40E8-B94D-9F8145E8FCB8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349-43ED-4F26-8BD7-D81EA04D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610-C299-4DF0-8BB3-03803916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E8B-2556-4C90-8277-9B464BE0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06F-D549-4195-A580-127DAFE1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D2D-5EFA-4692-886C-C7A3C014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B9C-2190-4A4D-85F8-FB3F6B95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926A-E424-435C-B25F-39E3DC4C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001-3224-4273-BCFE-9BB95FC3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4D2-AA1C-4830-ABC1-1C7471B7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8EC-39C8-4426-B2D7-9B60A760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866-D51D-45CD-8623-5FB9066A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A56-326C-47A2-A672-57BC86DC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98C6-2D3D-4D14-B121-766513BED1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"/>
          <p:cNvPicPr/>
          <p:nvPr/>
        </p:nvPicPr>
        <p:blipFill>
          <a:blip r:embed="rId4"/>
          <a:stretch/>
        </p:blipFill>
        <p:spPr>
          <a:xfrm>
            <a:off x="369720" y="11592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429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9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itle 1"/>
          <p:cNvSpPr/>
          <p:nvPr/>
        </p:nvSpPr>
        <p:spPr>
          <a:xfrm>
            <a:off x="2340000" y="2746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11" descr=""/>
          <p:cNvPicPr/>
          <p:nvPr/>
        </p:nvPicPr>
        <p:blipFill>
          <a:blip r:embed="rId4"/>
          <a:stretch/>
        </p:blipFill>
        <p:spPr>
          <a:xfrm>
            <a:off x="380880" y="73980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"/>
          <p:cNvPicPr/>
          <p:nvPr/>
        </p:nvPicPr>
        <p:blipFill>
          <a:blip r:embed="rId4"/>
          <a:stretch/>
        </p:blipFill>
        <p:spPr>
          <a:xfrm>
            <a:off x="250920" y="217440"/>
            <a:ext cx="1958760" cy="4572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96840" y="577800"/>
            <a:ext cx="2549520" cy="1060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9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380880" y="73980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4"/>
          <a:stretch/>
        </p:blipFill>
        <p:spPr>
          <a:xfrm>
            <a:off x="685800" y="714240"/>
            <a:ext cx="1959120" cy="459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171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9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4"/>
          <a:stretch/>
        </p:blipFill>
        <p:spPr>
          <a:xfrm>
            <a:off x="380880" y="73980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215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9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10" descr=""/>
          <p:cNvPicPr/>
          <p:nvPr/>
        </p:nvPicPr>
        <p:blipFill>
          <a:blip r:embed="rId4"/>
          <a:stretch/>
        </p:blipFill>
        <p:spPr>
          <a:xfrm>
            <a:off x="380880" y="73980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259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traight Connector 9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10" descr=""/>
          <p:cNvPicPr/>
          <p:nvPr/>
        </p:nvPicPr>
        <p:blipFill>
          <a:blip r:embed="rId4"/>
          <a:stretch/>
        </p:blipFill>
        <p:spPr>
          <a:xfrm>
            <a:off x="380880" y="73980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303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"/>
          <p:cNvPicPr/>
          <p:nvPr/>
        </p:nvPicPr>
        <p:blipFill>
          <a:blip r:embed="rId4"/>
          <a:stretch/>
        </p:blipFill>
        <p:spPr>
          <a:xfrm>
            <a:off x="7147080" y="115920"/>
            <a:ext cx="1958760" cy="4586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otdeleirr@abv.bg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35736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143160"/>
                <a:tab algn="l" pos="6286680"/>
                <a:tab algn="l" pos="942984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Проект INNO FOOD SEE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Изграждане на механизми в подкрепа на иновациите и повишаване на информираността относно потенциала на иновациите и научно-техническото развитие в хранителната промишленост в Югоизточна Европа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SEE/B/0028/1.3/X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1642680"/>
            <a:ext cx="6400800" cy="9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898989"/>
                </a:solidFill>
                <a:latin typeface="Calibri"/>
              </a:rPr>
              <a:t>ИНФОРМАЦИОНЕН    ДЕ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898989"/>
                </a:solidFill>
                <a:latin typeface="Calibri"/>
              </a:rPr>
              <a:t>ПАЗАРДЖИК, 29.05.2012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Calibri"/>
              </a:rPr>
              <a:t>Цели на проекта: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- Създаване на подходящи механизми за подпомагане обмена и координирането на научно-изследователския и технологичния подход и политиките в областта на производството на храни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- Повишаване на обществената информираност относно значението на технологичния прогрес и иновациите в областта на производството на храни в зоната на Югоизточна Европ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49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Очаквани резултати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Aнализ и сравнение на съществуващи политики, планове и инициативи за иновации в производството на храни в участващите региони;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SWOT анализ за иновациите в производството на храни в участващите региони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Оперативни планове за научни разработки и иновации;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Изследване на потенциала за инвестиране в иновации в производството на храни;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Мониторингов механизъм за проследяване на иновациите в производството на хран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57176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Очаквани резултат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База данни с профилите на приблизително 250 научни звена и с технологичните нужди на 400 предприятия за храни, която да служи за подобряване на сътрудничеството между тях;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Предложения за актуализиране на съществуващи учебни програми в отговор на сегашните тенденции в областта на иновациите в производството на храни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Информационно-технологичен инструментариум, предназначен за студенти и учени в областта на науките за храните;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680" y="149976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Очаквани резултати (3)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Меморандум за разбирателство и мрежа от заинтересовани страни и лица, отговорни за вземане на решения за развитието на транснационалната система за иновации в производството на храни;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Работа в мрежи и обмен между индустрията и нау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ните звена с цел развиване на транснационалното сътрудничество за иновации в производството на хра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2884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Очаквани резултати (4) </a:t>
            </a:r>
            <a:br>
              <a:rPr sz="3200"/>
            </a:b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- Обучени участници в областта на иновациите в производството на храни и финансирането на научни разработки; </a:t>
            </a:r>
            <a:br>
              <a:rPr sz="3200"/>
            </a:b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- Научно-изследователски кадри от всички партньори ще бъдат обучени на място по теми относно иновациите в производството на хран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Проект Inno- Food SEE 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си поставя за цел да бъде катализатор за иновациите в участващите страни и да бъде успешен пример, който да бъде последван и в други производствени и научно-изследователски сектори; методологията и резултатите ще бъдат предадени да могат да бъдат използвани и на европейско равнищ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Завършени дейности по проекта от ОА: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по дейност 3.1. – Изготвен Анализ и картиране на политики, планове и инициативи, свързани с иновации в производството на храни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по дейност 3.2. – Извършена оценка на технологичните нужди на 50 фирми от хранителния сектор на база на попълнени въпросници по проекта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- по дейност 3.3. изготвен SWOT анализ за иновациите в производството на хра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Calibri"/>
              </a:rPr>
              <a:t>БЛАГОДАРЯ ЗА ВНИМАНИЕТО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0000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898989"/>
                </a:solidFill>
                <a:latin typeface="Calibri"/>
              </a:rPr>
              <a:t>Гергана Калоян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898989"/>
                </a:solidFill>
                <a:latin typeface="Calibri"/>
              </a:rPr>
              <a:t>Тел.034/40 00 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E-mail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tdeleirr@abv.bg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499760"/>
            <a:ext cx="79581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Проект INNO FOOD SEE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е финансиран по Оперативна програма за транснационално сътрудничество “Югоизточна Европа” 2007 – 2013 година</a:t>
            </a:r>
            <a:br>
              <a:rPr sz="3200"/>
            </a:b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Общ бюджет на проекта – 1 682 245 евро</a:t>
            </a: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Бюджет на ОА – 90 000 евро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Начало на проекта 03.2011 г.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Продължителност – 30 месец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394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Партньори по проекта: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Водещ партньор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Център за изследвания и технологии Hellas, Институт по агробиотехнологии (EKETA- INA) Гърция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Партньори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Федерация на индустриите на Северна Гърция, (SVVE) Гърц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Национален изследователски съвет – Институт по науки за храни, (CNR/ISPA ) Итал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Аграрен университет Пловдив (AUP) Българ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Областна администрация Пазарджик, (OAP) Българ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Национален институт за изследвания и развитие в областта на биоресурсите за храни,  (IBA) Румъ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14240" y="1499760"/>
            <a:ext cx="7772400" cy="444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Партньори по проекта (2):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Камара на търговията, параходството и селското стопанство Констанца (CCINA) Румън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Агенция за развитие на Идрия и Черкно, (ICRA) Словен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Европейски парламент по хранителната верига -Foodlawment, (EEPF) Унгар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Национална академия по хранителни технологии Одеса (ONAFT) Украйна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Търговско-индустриална камара на Република Молдова (CCIRM) Република Молдова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Институт по хранителни тенологии (FINS) Сърб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499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Дейности по Работни пакети (Р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56800" y="2428920"/>
            <a:ext cx="76438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РП 1 “Транснационално управление на проекта”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Дейност 1.1.  Управление на проекта и финансово управ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Дейност 1.2. Координация на проекта.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8101080" cy="478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РП 2 “Комуникационни дейности”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-2.1. Разработване, мониторинг и оценка на Комуникационен план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2.2. Уебсайт на проекта и база данни на партньорите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2.3. Дейности, насочени към студенти и изследователи;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- 2.4. Дейности, насочени към широката общественост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- 2.5. Информационни дни и заключителна конференц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35684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00"/>
                </a:solidFill>
                <a:latin typeface="Calibri"/>
              </a:rPr>
              <a:t>РП 3 “Анализ на политиките и стратегиите за иновации в производството на храни “</a:t>
            </a:r>
            <a:r>
              <a:rPr b="1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3.1. Картиране, анализ и сравнение на политики, планове и инициативи, свързани с иновации в производството на храни; </a:t>
            </a: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3.2. Идентифициране на ключови научни звена и оценка на технологичните нужди на  фирми от хранителния сектор;</a:t>
            </a: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3.3. SWOT анализ за иновациите в производството на храни;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3.4.  Препоръки за формулиране на политики за иновации в производството на хра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00"/>
                </a:solidFill>
                <a:latin typeface="Calibri"/>
              </a:rPr>
              <a:t>РП 4 “Изграждане на механизми за подкрепа на иновациите в производството на храни”</a:t>
            </a: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- 4.1. Създаване на мрежа от заинтересовани страни и лица, отговорни за вземането на решения;</a:t>
            </a: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- 4.2. Изготвяне на оперативни планове за научни разработки и иновации в производството на храни;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- 4.3. Изследване на потенциала за инвестиране в иновации в производството на храни; </a:t>
            </a: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- 4.4.Изграждане на мониторингов механизъм  за проследяване и подкрепа на иновациите в производството на храни.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Calibri"/>
              </a:rPr>
              <a:t>РП 5 “Създаване на мрежи, обучение и обмен на опит в областта на иновациите в производството на храни” </a:t>
            </a: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 - 5.1 Разработване на материали за обучение; 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 - 5.2. Работни семинари в областта на иновациите в производството на храни;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 - 5.3. Работа в мрежи и съвместни инициативи;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 - 5.4. Обучения на научно-изследователски кадр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6T06:50:14Z</dcterms:created>
  <dc:creator>LenovoTP</dc:creator>
  <dc:description/>
  <dc:language>en-US</dc:language>
  <cp:lastModifiedBy>GERI</cp:lastModifiedBy>
  <dcterms:modified xsi:type="dcterms:W3CDTF">2012-05-28T07:08:14Z</dcterms:modified>
  <cp:revision>60</cp:revision>
  <dc:subject/>
  <dc:title>Slide 1</dc:title>
</cp:coreProperties>
</file>